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7CEB-E784-4E3C-AFE6-25673C27F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8 - 3 - 3 =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3(41) = 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x2x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=4x2=8x2=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F57-5C83-4A5D-9450-4BD5C38B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2DB-B2A2-4F4B-9493-010599CB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D3B-EB31-4F78-B9B4-ED390551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D1C5-BB09-4F75-B41B-8BABD150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688C-3E1E-4086-AF85-2850A3A1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C46F-9D7C-4D41-8B57-F8D0D080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957A-CE82-4DD5-AF27-EA0E4DB1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901A-8B27-4684-9F13-8F14B92C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DEF6-4E73-4ACC-A4CA-BF704D53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C42A-D4A1-4C1D-B3A2-5E988CD6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27D9-264A-4155-98D2-4BCD415D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7D8-2D8C-42F9-8373-933D2D66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18D7-DD6D-4766-A96A-CE52B294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7B25-8E2D-4A55-85A4-B8ECDB36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A14F-F266-424B-8A94-6674F882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2B5D-37C2-4BD6-8D0E-43A40568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C036-06A8-4B65-AF99-CE4D8C9A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102-1C34-40C4-82DF-2F55CC41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5DA-9976-4B50-B40D-2298D2AB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D90-E970-4268-A74A-0C33558A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AEC-2044-4C96-8BA3-2B6866C2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341-39D5-444E-85BC-2C934CA8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DEE-BA6D-45D8-BBF2-5ED4BC6D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056D-B516-4C8A-B4CA-77DD5A31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9779-1526-4C14-862B-47ED920A48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0230-CCF6-458F-8179-376DB7C2F2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ff"/>
                </a:solidFill>
                <a:uFillTx/>
                <a:latin typeface="Palatino"/>
              </a:rPr>
              <a:t>Course 2 Objective:</a:t>
            </a:r>
            <a:r>
              <a:rPr b="1" lang="en-US" sz="6000" spc="-1" strike="noStrike">
                <a:solidFill>
                  <a:srgbClr val="6600ff"/>
                </a:solidFill>
                <a:latin typeface="Palatino"/>
              </a:rPr>
              <a:t>  </a:t>
            </a:r>
            <a:br>
              <a:rPr sz="6000"/>
            </a:b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Palatino"/>
              </a:rPr>
              <a:t>Students will evaluate exponents using the order of operations</a:t>
            </a:r>
            <a:endParaRPr b="1" lang="en-US" sz="2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pener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.   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3 - (15 ÷ 5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3.   What is the square root of 36? (       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705720" y="3657600"/>
                <a:ext cx="609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677960" y="2581200"/>
            <a:ext cx="750960" cy="677880"/>
          </a:xfrm>
          <a:custGeom>
            <a:avLst/>
            <a:gdLst/>
            <a:ahLst/>
            <a:rect l="l" t="t" r="r" b="b"/>
            <a:pathLst>
              <a:path w="2085" h="1886">
                <a:moveTo>
                  <a:pt x="5259" y="7169"/>
                </a:moveTo>
                <a:cubicBezTo>
                  <a:pt x="5180" y="7343"/>
                  <a:pt x="5022" y="7613"/>
                  <a:pt x="5085" y="7813"/>
                </a:cubicBezTo>
                <a:cubicBezTo>
                  <a:pt x="5110" y="7838"/>
                  <a:pt x="5134" y="7863"/>
                  <a:pt x="5159" y="7888"/>
                </a:cubicBezTo>
                <a:cubicBezTo>
                  <a:pt x="5323" y="7850"/>
                  <a:pt x="5562" y="7816"/>
                  <a:pt x="5581" y="7590"/>
                </a:cubicBezTo>
                <a:cubicBezTo>
                  <a:pt x="5573" y="7574"/>
                  <a:pt x="5564" y="7557"/>
                  <a:pt x="5556" y="7541"/>
                </a:cubicBezTo>
                <a:cubicBezTo>
                  <a:pt x="5416" y="7517"/>
                  <a:pt x="5311" y="7558"/>
                  <a:pt x="5259" y="7714"/>
                </a:cubicBezTo>
                <a:cubicBezTo>
                  <a:pt x="5239" y="7832"/>
                  <a:pt x="5217" y="7853"/>
                  <a:pt x="5259" y="7913"/>
                </a:cubicBezTo>
              </a:path>
              <a:path w="2085" h="1886">
                <a:moveTo>
                  <a:pt x="5779" y="7342"/>
                </a:moveTo>
                <a:cubicBezTo>
                  <a:pt x="5807" y="7470"/>
                  <a:pt x="5875" y="7611"/>
                  <a:pt x="5928" y="7739"/>
                </a:cubicBezTo>
                <a:cubicBezTo>
                  <a:pt x="5936" y="7756"/>
                  <a:pt x="5945" y="7772"/>
                  <a:pt x="5953" y="7789"/>
                </a:cubicBezTo>
              </a:path>
              <a:path w="2085" h="1886">
                <a:moveTo>
                  <a:pt x="6102" y="7342"/>
                </a:moveTo>
                <a:cubicBezTo>
                  <a:pt x="5959" y="7466"/>
                  <a:pt x="5843" y="7610"/>
                  <a:pt x="5730" y="7764"/>
                </a:cubicBezTo>
              </a:path>
              <a:path w="2085" h="1886">
                <a:moveTo>
                  <a:pt x="6400" y="7268"/>
                </a:moveTo>
                <a:cubicBezTo>
                  <a:pt x="6299" y="7450"/>
                  <a:pt x="6253" y="7557"/>
                  <a:pt x="6276" y="7764"/>
                </a:cubicBezTo>
                <a:cubicBezTo>
                  <a:pt x="6506" y="7738"/>
                  <a:pt x="6594" y="7663"/>
                  <a:pt x="6747" y="7491"/>
                </a:cubicBezTo>
                <a:cubicBezTo>
                  <a:pt x="6577" y="7523"/>
                  <a:pt x="6580" y="7542"/>
                  <a:pt x="6474" y="7689"/>
                </a:cubicBezTo>
              </a:path>
              <a:path w="2085" h="1886">
                <a:moveTo>
                  <a:pt x="5110" y="8310"/>
                </a:moveTo>
                <a:cubicBezTo>
                  <a:pt x="5166" y="8291"/>
                  <a:pt x="5536" y="8144"/>
                  <a:pt x="5482" y="8359"/>
                </a:cubicBezTo>
                <a:cubicBezTo>
                  <a:pt x="5405" y="8486"/>
                  <a:pt x="5376" y="8529"/>
                  <a:pt x="5259" y="8533"/>
                </a:cubicBezTo>
                <a:cubicBezTo>
                  <a:pt x="5234" y="8541"/>
                  <a:pt x="5209" y="8550"/>
                  <a:pt x="5184" y="8558"/>
                </a:cubicBezTo>
                <a:cubicBezTo>
                  <a:pt x="5240" y="8539"/>
                  <a:pt x="5589" y="8433"/>
                  <a:pt x="5531" y="8632"/>
                </a:cubicBezTo>
                <a:cubicBezTo>
                  <a:pt x="5495" y="8756"/>
                  <a:pt x="5201" y="8827"/>
                  <a:pt x="5110" y="8731"/>
                </a:cubicBezTo>
                <a:cubicBezTo>
                  <a:pt x="5110" y="8706"/>
                  <a:pt x="5110" y="8682"/>
                  <a:pt x="5110" y="8657"/>
                </a:cubicBezTo>
              </a:path>
              <a:path w="2085" h="1886">
                <a:moveTo>
                  <a:pt x="5879" y="8285"/>
                </a:moveTo>
                <a:cubicBezTo>
                  <a:pt x="5866" y="8391"/>
                  <a:pt x="5795" y="8550"/>
                  <a:pt x="5829" y="8657"/>
                </a:cubicBezTo>
                <a:cubicBezTo>
                  <a:pt x="5846" y="8673"/>
                  <a:pt x="5862" y="8690"/>
                  <a:pt x="5879" y="8706"/>
                </a:cubicBezTo>
                <a:cubicBezTo>
                  <a:pt x="6076" y="8695"/>
                  <a:pt x="6119" y="8626"/>
                  <a:pt x="6201" y="8434"/>
                </a:cubicBezTo>
                <a:cubicBezTo>
                  <a:pt x="6029" y="8433"/>
                  <a:pt x="5973" y="8521"/>
                  <a:pt x="5904" y="8682"/>
                </a:cubicBezTo>
              </a:path>
              <a:path w="2085" h="1886">
                <a:moveTo>
                  <a:pt x="5159" y="8930"/>
                </a:moveTo>
                <a:cubicBezTo>
                  <a:pt x="5468" y="9036"/>
                  <a:pt x="5822" y="9021"/>
                  <a:pt x="6152" y="8930"/>
                </a:cubicBezTo>
                <a:cubicBezTo>
                  <a:pt x="6440" y="8851"/>
                  <a:pt x="6606" y="8738"/>
                  <a:pt x="6648" y="8458"/>
                </a:cubicBezTo>
                <a:cubicBezTo>
                  <a:pt x="6402" y="8203"/>
                  <a:pt x="6140" y="8100"/>
                  <a:pt x="5779" y="8037"/>
                </a:cubicBezTo>
                <a:cubicBezTo>
                  <a:pt x="5475" y="7984"/>
                  <a:pt x="5200" y="8012"/>
                  <a:pt x="4936" y="8186"/>
                </a:cubicBezTo>
                <a:cubicBezTo>
                  <a:pt x="4637" y="8383"/>
                  <a:pt x="4578" y="8617"/>
                  <a:pt x="4837" y="8880"/>
                </a:cubicBezTo>
                <a:cubicBezTo>
                  <a:pt x="5055" y="9101"/>
                  <a:pt x="5330" y="9057"/>
                  <a:pt x="5606" y="902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11920" y="2867040"/>
            <a:ext cx="588960" cy="384120"/>
          </a:xfrm>
          <a:custGeom>
            <a:avLst/>
            <a:gdLst/>
            <a:ahLst/>
            <a:rect l="l" t="t" r="r" b="b"/>
            <a:pathLst>
              <a:path w="1638" h="1068">
                <a:moveTo>
                  <a:pt x="16421" y="7987"/>
                </a:moveTo>
                <a:cubicBezTo>
                  <a:pt x="16511" y="8033"/>
                  <a:pt x="16432" y="8093"/>
                  <a:pt x="16495" y="8186"/>
                </a:cubicBezTo>
                <a:cubicBezTo>
                  <a:pt x="16536" y="8246"/>
                  <a:pt x="16757" y="8210"/>
                  <a:pt x="16818" y="8210"/>
                </a:cubicBezTo>
                <a:cubicBezTo>
                  <a:pt x="17019" y="8210"/>
                  <a:pt x="17213" y="8230"/>
                  <a:pt x="17413" y="8235"/>
                </a:cubicBezTo>
                <a:cubicBezTo>
                  <a:pt x="17593" y="8239"/>
                  <a:pt x="17816" y="8196"/>
                  <a:pt x="17983" y="8260"/>
                </a:cubicBezTo>
                <a:cubicBezTo>
                  <a:pt x="18024" y="8150"/>
                  <a:pt x="18049" y="8077"/>
                  <a:pt x="18058" y="7962"/>
                </a:cubicBezTo>
              </a:path>
              <a:path w="1638" h="1068">
                <a:moveTo>
                  <a:pt x="17115" y="8458"/>
                </a:moveTo>
                <a:cubicBezTo>
                  <a:pt x="17197" y="8438"/>
                  <a:pt x="17339" y="8394"/>
                  <a:pt x="17413" y="8458"/>
                </a:cubicBezTo>
                <a:cubicBezTo>
                  <a:pt x="17576" y="8599"/>
                  <a:pt x="17315" y="8700"/>
                  <a:pt x="17239" y="8731"/>
                </a:cubicBezTo>
                <a:cubicBezTo>
                  <a:pt x="17223" y="8739"/>
                  <a:pt x="17206" y="8748"/>
                  <a:pt x="17190" y="8756"/>
                </a:cubicBezTo>
                <a:cubicBezTo>
                  <a:pt x="17297" y="8722"/>
                  <a:pt x="17433" y="8649"/>
                  <a:pt x="17512" y="8781"/>
                </a:cubicBezTo>
                <a:cubicBezTo>
                  <a:pt x="17577" y="8890"/>
                  <a:pt x="17524" y="8967"/>
                  <a:pt x="17413" y="9004"/>
                </a:cubicBezTo>
                <a:cubicBezTo>
                  <a:pt x="17303" y="9041"/>
                  <a:pt x="17256" y="9031"/>
                  <a:pt x="17165" y="89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32160" y="3044880"/>
            <a:ext cx="2135160" cy="581040"/>
          </a:xfrm>
          <a:custGeom>
            <a:avLst/>
            <a:gdLst/>
            <a:ahLst/>
            <a:rect l="l" t="t" r="r" b="b"/>
            <a:pathLst>
              <a:path w="5930" h="1614">
                <a:moveTo>
                  <a:pt x="12229" y="8508"/>
                </a:moveTo>
                <a:cubicBezTo>
                  <a:pt x="12088" y="8455"/>
                  <a:pt x="11962" y="8496"/>
                  <a:pt x="11832" y="8582"/>
                </a:cubicBezTo>
                <a:cubicBezTo>
                  <a:pt x="11785" y="8629"/>
                  <a:pt x="11771" y="8641"/>
                  <a:pt x="11757" y="8682"/>
                </a:cubicBezTo>
                <a:cubicBezTo>
                  <a:pt x="11910" y="8775"/>
                  <a:pt x="12161" y="8794"/>
                  <a:pt x="12278" y="8954"/>
                </a:cubicBezTo>
                <a:cubicBezTo>
                  <a:pt x="12278" y="8979"/>
                  <a:pt x="12278" y="9004"/>
                  <a:pt x="12278" y="9029"/>
                </a:cubicBezTo>
                <a:cubicBezTo>
                  <a:pt x="12188" y="9082"/>
                  <a:pt x="11841" y="9236"/>
                  <a:pt x="11906" y="8954"/>
                </a:cubicBezTo>
                <a:cubicBezTo>
                  <a:pt x="11932" y="8840"/>
                  <a:pt x="12055" y="8718"/>
                  <a:pt x="12129" y="8632"/>
                </a:cubicBezTo>
              </a:path>
              <a:path w="5930" h="1614">
                <a:moveTo>
                  <a:pt x="13047" y="8731"/>
                </a:moveTo>
                <a:cubicBezTo>
                  <a:pt x="13138" y="8731"/>
                  <a:pt x="13229" y="8731"/>
                  <a:pt x="13320" y="8731"/>
                </a:cubicBezTo>
              </a:path>
              <a:path w="5930" h="1614">
                <a:moveTo>
                  <a:pt x="13841" y="8483"/>
                </a:moveTo>
                <a:cubicBezTo>
                  <a:pt x="13904" y="8480"/>
                  <a:pt x="14291" y="8464"/>
                  <a:pt x="14238" y="8632"/>
                </a:cubicBezTo>
                <a:cubicBezTo>
                  <a:pt x="14162" y="8707"/>
                  <a:pt x="14135" y="8733"/>
                  <a:pt x="14064" y="8756"/>
                </a:cubicBezTo>
                <a:cubicBezTo>
                  <a:pt x="14056" y="8756"/>
                  <a:pt x="14047" y="8756"/>
                  <a:pt x="14039" y="8756"/>
                </a:cubicBezTo>
                <a:cubicBezTo>
                  <a:pt x="14132" y="8728"/>
                  <a:pt x="14317" y="8713"/>
                  <a:pt x="14312" y="8880"/>
                </a:cubicBezTo>
                <a:cubicBezTo>
                  <a:pt x="14306" y="9056"/>
                  <a:pt x="14061" y="8993"/>
                  <a:pt x="13990" y="8954"/>
                </a:cubicBezTo>
              </a:path>
              <a:path w="5930" h="1614">
                <a:moveTo>
                  <a:pt x="14957" y="8706"/>
                </a:moveTo>
                <a:cubicBezTo>
                  <a:pt x="15063" y="8744"/>
                  <a:pt x="15115" y="8756"/>
                  <a:pt x="15230" y="8756"/>
                </a:cubicBezTo>
              </a:path>
              <a:path w="5930" h="1614">
                <a:moveTo>
                  <a:pt x="13767" y="9376"/>
                </a:moveTo>
                <a:cubicBezTo>
                  <a:pt x="13675" y="9376"/>
                  <a:pt x="13575" y="9315"/>
                  <a:pt x="13543" y="9426"/>
                </a:cubicBezTo>
                <a:cubicBezTo>
                  <a:pt x="13531" y="9468"/>
                  <a:pt x="13529" y="9550"/>
                  <a:pt x="13519" y="9599"/>
                </a:cubicBezTo>
                <a:cubicBezTo>
                  <a:pt x="13645" y="9566"/>
                  <a:pt x="13786" y="9493"/>
                  <a:pt x="13915" y="9550"/>
                </a:cubicBezTo>
                <a:cubicBezTo>
                  <a:pt x="14064" y="9616"/>
                  <a:pt x="13929" y="9771"/>
                  <a:pt x="13841" y="9798"/>
                </a:cubicBezTo>
                <a:cubicBezTo>
                  <a:pt x="13716" y="9819"/>
                  <a:pt x="13689" y="9835"/>
                  <a:pt x="13618" y="9798"/>
                </a:cubicBezTo>
              </a:path>
              <a:path w="5930" h="1614">
                <a:moveTo>
                  <a:pt x="12948" y="9054"/>
                </a:moveTo>
                <a:cubicBezTo>
                  <a:pt x="12826" y="9001"/>
                  <a:pt x="12859" y="9095"/>
                  <a:pt x="12849" y="9203"/>
                </a:cubicBezTo>
                <a:cubicBezTo>
                  <a:pt x="13097" y="9149"/>
                  <a:pt x="13336" y="9085"/>
                  <a:pt x="13593" y="9103"/>
                </a:cubicBezTo>
                <a:cubicBezTo>
                  <a:pt x="13678" y="9109"/>
                  <a:pt x="13834" y="9203"/>
                  <a:pt x="13915" y="9178"/>
                </a:cubicBezTo>
                <a:cubicBezTo>
                  <a:pt x="13973" y="9160"/>
                  <a:pt x="13978" y="9048"/>
                  <a:pt x="13990" y="9004"/>
                </a:cubicBezTo>
              </a:path>
              <a:path w="5930" h="1614">
                <a:moveTo>
                  <a:pt x="14337" y="9525"/>
                </a:moveTo>
                <a:cubicBezTo>
                  <a:pt x="14412" y="9500"/>
                  <a:pt x="14436" y="9492"/>
                  <a:pt x="14486" y="9475"/>
                </a:cubicBezTo>
              </a:path>
              <a:path w="5930" h="1614">
                <a:moveTo>
                  <a:pt x="14759" y="9351"/>
                </a:moveTo>
                <a:cubicBezTo>
                  <a:pt x="14786" y="9344"/>
                  <a:pt x="15110" y="9294"/>
                  <a:pt x="15032" y="9401"/>
                </a:cubicBezTo>
                <a:cubicBezTo>
                  <a:pt x="14936" y="9472"/>
                  <a:pt x="14906" y="9495"/>
                  <a:pt x="14833" y="9525"/>
                </a:cubicBezTo>
                <a:cubicBezTo>
                  <a:pt x="14990" y="9548"/>
                  <a:pt x="15034" y="9545"/>
                  <a:pt x="15106" y="9624"/>
                </a:cubicBezTo>
                <a:cubicBezTo>
                  <a:pt x="15048" y="9800"/>
                  <a:pt x="14965" y="9785"/>
                  <a:pt x="14784" y="9748"/>
                </a:cubicBezTo>
              </a:path>
              <a:path w="5930" h="1614">
                <a:moveTo>
                  <a:pt x="15528" y="9401"/>
                </a:moveTo>
                <a:cubicBezTo>
                  <a:pt x="15617" y="9437"/>
                  <a:pt x="15680" y="9445"/>
                  <a:pt x="15776" y="9451"/>
                </a:cubicBezTo>
              </a:path>
              <a:path w="5930" h="1614">
                <a:moveTo>
                  <a:pt x="15553" y="9575"/>
                </a:moveTo>
                <a:cubicBezTo>
                  <a:pt x="15578" y="9575"/>
                  <a:pt x="15602" y="9575"/>
                  <a:pt x="15627" y="9575"/>
                </a:cubicBezTo>
              </a:path>
              <a:path w="5930" h="1614">
                <a:moveTo>
                  <a:pt x="16495" y="9351"/>
                </a:moveTo>
                <a:cubicBezTo>
                  <a:pt x="16693" y="9260"/>
                  <a:pt x="16956" y="9254"/>
                  <a:pt x="16991" y="9550"/>
                </a:cubicBezTo>
                <a:cubicBezTo>
                  <a:pt x="17027" y="9853"/>
                  <a:pt x="16686" y="9847"/>
                  <a:pt x="16545" y="9748"/>
                </a:cubicBezTo>
                <a:cubicBezTo>
                  <a:pt x="16754" y="9661"/>
                  <a:pt x="16834" y="9609"/>
                  <a:pt x="17016" y="9748"/>
                </a:cubicBezTo>
              </a:path>
              <a:path w="5930" h="1614">
                <a:moveTo>
                  <a:pt x="16470" y="9971"/>
                </a:moveTo>
                <a:cubicBezTo>
                  <a:pt x="16749" y="10079"/>
                  <a:pt x="16973" y="10115"/>
                  <a:pt x="17264" y="9996"/>
                </a:cubicBezTo>
                <a:cubicBezTo>
                  <a:pt x="17543" y="9882"/>
                  <a:pt x="17751" y="9647"/>
                  <a:pt x="17686" y="9327"/>
                </a:cubicBezTo>
                <a:cubicBezTo>
                  <a:pt x="17612" y="8967"/>
                  <a:pt x="17177" y="8941"/>
                  <a:pt x="16892" y="8930"/>
                </a:cubicBezTo>
                <a:cubicBezTo>
                  <a:pt x="16664" y="8921"/>
                  <a:pt x="16388" y="8897"/>
                  <a:pt x="16197" y="9054"/>
                </a:cubicBezTo>
                <a:cubicBezTo>
                  <a:pt x="16009" y="9208"/>
                  <a:pt x="16041" y="9601"/>
                  <a:pt x="16148" y="9798"/>
                </a:cubicBezTo>
                <a:cubicBezTo>
                  <a:pt x="16294" y="10067"/>
                  <a:pt x="16657" y="10017"/>
                  <a:pt x="16917" y="10021"/>
                </a:cubicBezTo>
                <a:cubicBezTo>
                  <a:pt x="17016" y="10021"/>
                  <a:pt x="17032" y="10021"/>
                  <a:pt x="17090" y="1002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42120" y="3268800"/>
            <a:ext cx="669960" cy="339480"/>
          </a:xfrm>
          <a:custGeom>
            <a:avLst/>
            <a:gdLst/>
            <a:ahLst/>
            <a:rect l="l" t="t" r="r" b="b"/>
            <a:pathLst>
              <a:path w="1861" h="943">
                <a:moveTo>
                  <a:pt x="20117" y="9748"/>
                </a:moveTo>
                <a:cubicBezTo>
                  <a:pt x="20233" y="9818"/>
                  <a:pt x="20348" y="9938"/>
                  <a:pt x="20464" y="9996"/>
                </a:cubicBezTo>
                <a:cubicBezTo>
                  <a:pt x="20480" y="9996"/>
                  <a:pt x="20497" y="9996"/>
                  <a:pt x="20513" y="9996"/>
                </a:cubicBezTo>
                <a:cubicBezTo>
                  <a:pt x="20571" y="9899"/>
                  <a:pt x="20625" y="9790"/>
                  <a:pt x="20638" y="9649"/>
                </a:cubicBezTo>
                <a:cubicBezTo>
                  <a:pt x="20647" y="9544"/>
                  <a:pt x="20642" y="9430"/>
                  <a:pt x="20662" y="9327"/>
                </a:cubicBezTo>
                <a:cubicBezTo>
                  <a:pt x="20676" y="9256"/>
                  <a:pt x="20680" y="9244"/>
                  <a:pt x="20687" y="9178"/>
                </a:cubicBezTo>
                <a:cubicBezTo>
                  <a:pt x="20851" y="9192"/>
                  <a:pt x="20994" y="9182"/>
                  <a:pt x="21158" y="9178"/>
                </a:cubicBezTo>
                <a:cubicBezTo>
                  <a:pt x="21296" y="9175"/>
                  <a:pt x="21419" y="9133"/>
                  <a:pt x="21555" y="9128"/>
                </a:cubicBezTo>
                <a:cubicBezTo>
                  <a:pt x="21650" y="9125"/>
                  <a:pt x="21736" y="9108"/>
                  <a:pt x="21828" y="9103"/>
                </a:cubicBezTo>
                <a:cubicBezTo>
                  <a:pt x="21893" y="9100"/>
                  <a:pt x="21905" y="9085"/>
                  <a:pt x="21977" y="9079"/>
                </a:cubicBezTo>
              </a:path>
              <a:path w="1861" h="943">
                <a:moveTo>
                  <a:pt x="20191" y="9748"/>
                </a:moveTo>
                <a:cubicBezTo>
                  <a:pt x="20234" y="9785"/>
                  <a:pt x="20567" y="10061"/>
                  <a:pt x="20489" y="9971"/>
                </a:cubicBezTo>
                <a:cubicBezTo>
                  <a:pt x="20411" y="9882"/>
                  <a:pt x="20219" y="9590"/>
                  <a:pt x="20265" y="9699"/>
                </a:cubicBezTo>
                <a:cubicBezTo>
                  <a:pt x="20282" y="9732"/>
                  <a:pt x="20298" y="9765"/>
                  <a:pt x="20315" y="9798"/>
                </a:cubicBezTo>
                <a:cubicBezTo>
                  <a:pt x="20335" y="9818"/>
                  <a:pt x="20594" y="10110"/>
                  <a:pt x="20489" y="9996"/>
                </a:cubicBezTo>
                <a:cubicBezTo>
                  <a:pt x="20410" y="9911"/>
                  <a:pt x="20358" y="9814"/>
                  <a:pt x="20290" y="9723"/>
                </a:cubicBezTo>
                <a:cubicBezTo>
                  <a:pt x="20331" y="9781"/>
                  <a:pt x="20619" y="10114"/>
                  <a:pt x="20414" y="9823"/>
                </a:cubicBezTo>
                <a:cubicBezTo>
                  <a:pt x="20381" y="9782"/>
                  <a:pt x="20348" y="9740"/>
                  <a:pt x="20315" y="9699"/>
                </a:cubicBezTo>
                <a:cubicBezTo>
                  <a:pt x="20315" y="9581"/>
                  <a:pt x="20431" y="9876"/>
                  <a:pt x="20464" y="994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3160" y="4268880"/>
            <a:ext cx="633600" cy="571320"/>
          </a:xfrm>
          <a:custGeom>
            <a:avLst/>
            <a:gdLst/>
            <a:ahLst/>
            <a:rect l="l" t="t" r="r" b="b"/>
            <a:pathLst>
              <a:path w="1763" h="1588">
                <a:moveTo>
                  <a:pt x="18628" y="11857"/>
                </a:moveTo>
                <a:cubicBezTo>
                  <a:pt x="18549" y="12094"/>
                  <a:pt x="18495" y="12274"/>
                  <a:pt x="18479" y="12526"/>
                </a:cubicBezTo>
                <a:cubicBezTo>
                  <a:pt x="18727" y="12601"/>
                  <a:pt x="18986" y="12471"/>
                  <a:pt x="19050" y="12154"/>
                </a:cubicBezTo>
                <a:cubicBezTo>
                  <a:pt x="19053" y="12137"/>
                  <a:pt x="18835" y="12305"/>
                  <a:pt x="18827" y="12477"/>
                </a:cubicBezTo>
              </a:path>
              <a:path w="1763" h="1588">
                <a:moveTo>
                  <a:pt x="19199" y="11981"/>
                </a:moveTo>
                <a:cubicBezTo>
                  <a:pt x="19301" y="12127"/>
                  <a:pt x="19375" y="12201"/>
                  <a:pt x="19521" y="12303"/>
                </a:cubicBezTo>
              </a:path>
              <a:path w="1763" h="1588">
                <a:moveTo>
                  <a:pt x="19397" y="12055"/>
                </a:moveTo>
                <a:cubicBezTo>
                  <a:pt x="19309" y="12232"/>
                  <a:pt x="19280" y="12275"/>
                  <a:pt x="19273" y="12402"/>
                </a:cubicBezTo>
              </a:path>
              <a:path w="1763" h="1588">
                <a:moveTo>
                  <a:pt x="19745" y="11881"/>
                </a:moveTo>
                <a:cubicBezTo>
                  <a:pt x="19745" y="12118"/>
                  <a:pt x="19719" y="12255"/>
                  <a:pt x="19869" y="12427"/>
                </a:cubicBezTo>
                <a:cubicBezTo>
                  <a:pt x="20110" y="12361"/>
                  <a:pt x="20216" y="12289"/>
                  <a:pt x="20216" y="12030"/>
                </a:cubicBezTo>
                <a:cubicBezTo>
                  <a:pt x="20070" y="12118"/>
                  <a:pt x="20008" y="12194"/>
                  <a:pt x="20042" y="12378"/>
                </a:cubicBezTo>
              </a:path>
              <a:path w="1763" h="1588">
                <a:moveTo>
                  <a:pt x="18901" y="12973"/>
                </a:moveTo>
                <a:cubicBezTo>
                  <a:pt x="18961" y="12946"/>
                  <a:pt x="19393" y="12758"/>
                  <a:pt x="19248" y="12998"/>
                </a:cubicBezTo>
                <a:cubicBezTo>
                  <a:pt x="19174" y="13072"/>
                  <a:pt x="19165" y="13081"/>
                  <a:pt x="19124" y="13122"/>
                </a:cubicBezTo>
                <a:cubicBezTo>
                  <a:pt x="19191" y="13114"/>
                  <a:pt x="19520" y="13016"/>
                  <a:pt x="19496" y="13196"/>
                </a:cubicBezTo>
                <a:cubicBezTo>
                  <a:pt x="19472" y="13375"/>
                  <a:pt x="19200" y="13409"/>
                  <a:pt x="19075" y="13444"/>
                </a:cubicBezTo>
              </a:path>
              <a:path w="1763" h="1588">
                <a:moveTo>
                  <a:pt x="19645" y="12675"/>
                </a:moveTo>
                <a:cubicBezTo>
                  <a:pt x="19680" y="12797"/>
                  <a:pt x="19649" y="13054"/>
                  <a:pt x="19720" y="13146"/>
                </a:cubicBezTo>
                <a:cubicBezTo>
                  <a:pt x="19842" y="13303"/>
                  <a:pt x="20181" y="13195"/>
                  <a:pt x="20191" y="12998"/>
                </a:cubicBezTo>
                <a:cubicBezTo>
                  <a:pt x="20206" y="12710"/>
                  <a:pt x="19939" y="13031"/>
                  <a:pt x="19918" y="131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81960" y="4313160"/>
            <a:ext cx="142920" cy="61920"/>
          </a:xfrm>
          <a:custGeom>
            <a:avLst/>
            <a:gdLst/>
            <a:ahLst/>
            <a:rect l="l" t="t" r="r" b="b"/>
            <a:pathLst>
              <a:path w="398" h="174">
                <a:moveTo>
                  <a:pt x="21059" y="12005"/>
                </a:moveTo>
                <a:cubicBezTo>
                  <a:pt x="21194" y="11983"/>
                  <a:pt x="21318" y="11981"/>
                  <a:pt x="21456" y="11981"/>
                </a:cubicBezTo>
              </a:path>
              <a:path w="398" h="174">
                <a:moveTo>
                  <a:pt x="21208" y="12154"/>
                </a:moveTo>
                <a:cubicBezTo>
                  <a:pt x="21258" y="12138"/>
                  <a:pt x="21307" y="12121"/>
                  <a:pt x="21357" y="1210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12080" y="4017960"/>
            <a:ext cx="374760" cy="411120"/>
          </a:xfrm>
          <a:custGeom>
            <a:avLst/>
            <a:gdLst/>
            <a:ahLst/>
            <a:rect l="l" t="t" r="r" b="b"/>
            <a:pathLst>
              <a:path w="1043" h="1142">
                <a:moveTo>
                  <a:pt x="22101" y="11609"/>
                </a:moveTo>
                <a:cubicBezTo>
                  <a:pt x="22041" y="11849"/>
                  <a:pt x="21977" y="12058"/>
                  <a:pt x="22002" y="12303"/>
                </a:cubicBezTo>
                <a:cubicBezTo>
                  <a:pt x="22286" y="12261"/>
                  <a:pt x="22416" y="12224"/>
                  <a:pt x="22523" y="11956"/>
                </a:cubicBezTo>
                <a:cubicBezTo>
                  <a:pt x="22406" y="11947"/>
                  <a:pt x="22206" y="12002"/>
                  <a:pt x="22299" y="12179"/>
                </a:cubicBezTo>
                <a:cubicBezTo>
                  <a:pt x="22316" y="12187"/>
                  <a:pt x="22332" y="12196"/>
                  <a:pt x="22349" y="12204"/>
                </a:cubicBezTo>
              </a:path>
              <a:path w="1043" h="1142">
                <a:moveTo>
                  <a:pt x="22498" y="11212"/>
                </a:moveTo>
                <a:cubicBezTo>
                  <a:pt x="22591" y="11185"/>
                  <a:pt x="22675" y="11169"/>
                  <a:pt x="22771" y="11162"/>
                </a:cubicBezTo>
                <a:cubicBezTo>
                  <a:pt x="22801" y="11312"/>
                  <a:pt x="22737" y="11364"/>
                  <a:pt x="22622" y="11460"/>
                </a:cubicBezTo>
                <a:cubicBezTo>
                  <a:pt x="22715" y="11451"/>
                  <a:pt x="22807" y="11424"/>
                  <a:pt x="22895" y="11410"/>
                </a:cubicBezTo>
                <a:cubicBezTo>
                  <a:pt x="22952" y="11401"/>
                  <a:pt x="22979" y="11428"/>
                  <a:pt x="23019" y="114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19680" y="1938240"/>
            <a:ext cx="884160" cy="446040"/>
          </a:xfrm>
          <a:custGeom>
            <a:avLst/>
            <a:gdLst/>
            <a:ahLst/>
            <a:rect l="l" t="t" r="r" b="b"/>
            <a:pathLst>
              <a:path w="2457" h="1241">
                <a:moveTo>
                  <a:pt x="11038" y="6226"/>
                </a:moveTo>
                <a:cubicBezTo>
                  <a:pt x="11175" y="6013"/>
                  <a:pt x="11237" y="6072"/>
                  <a:pt x="11410" y="6226"/>
                </a:cubicBezTo>
                <a:cubicBezTo>
                  <a:pt x="11309" y="6528"/>
                  <a:pt x="11226" y="6587"/>
                  <a:pt x="10914" y="6598"/>
                </a:cubicBezTo>
                <a:cubicBezTo>
                  <a:pt x="10924" y="6395"/>
                  <a:pt x="11017" y="6270"/>
                  <a:pt x="11237" y="6424"/>
                </a:cubicBezTo>
                <a:cubicBezTo>
                  <a:pt x="11319" y="6507"/>
                  <a:pt x="11335" y="6524"/>
                  <a:pt x="11385" y="6573"/>
                </a:cubicBezTo>
              </a:path>
              <a:path w="2457" h="1241">
                <a:moveTo>
                  <a:pt x="11559" y="6077"/>
                </a:moveTo>
                <a:cubicBezTo>
                  <a:pt x="11666" y="6221"/>
                  <a:pt x="11709" y="6256"/>
                  <a:pt x="11733" y="6424"/>
                </a:cubicBezTo>
              </a:path>
              <a:path w="2457" h="1241">
                <a:moveTo>
                  <a:pt x="11708" y="6003"/>
                </a:moveTo>
                <a:cubicBezTo>
                  <a:pt x="11658" y="6152"/>
                  <a:pt x="11609" y="6300"/>
                  <a:pt x="11559" y="6449"/>
                </a:cubicBezTo>
              </a:path>
              <a:path w="2457" h="1241">
                <a:moveTo>
                  <a:pt x="11832" y="6052"/>
                </a:moveTo>
                <a:cubicBezTo>
                  <a:pt x="11901" y="5925"/>
                  <a:pt x="12032" y="5849"/>
                  <a:pt x="12154" y="6003"/>
                </a:cubicBezTo>
                <a:cubicBezTo>
                  <a:pt x="12282" y="6164"/>
                  <a:pt x="12208" y="6463"/>
                  <a:pt x="11981" y="6474"/>
                </a:cubicBezTo>
                <a:cubicBezTo>
                  <a:pt x="11948" y="6457"/>
                  <a:pt x="11914" y="6441"/>
                  <a:pt x="11881" y="6424"/>
                </a:cubicBezTo>
                <a:cubicBezTo>
                  <a:pt x="11869" y="6225"/>
                  <a:pt x="11933" y="6220"/>
                  <a:pt x="12129" y="6251"/>
                </a:cubicBezTo>
                <a:cubicBezTo>
                  <a:pt x="12230" y="6271"/>
                  <a:pt x="12261" y="6258"/>
                  <a:pt x="12278" y="6325"/>
                </a:cubicBezTo>
              </a:path>
              <a:path w="2457" h="1241">
                <a:moveTo>
                  <a:pt x="12601" y="5904"/>
                </a:moveTo>
                <a:cubicBezTo>
                  <a:pt x="12670" y="5985"/>
                  <a:pt x="12718" y="6060"/>
                  <a:pt x="12774" y="6152"/>
                </a:cubicBezTo>
              </a:path>
              <a:path w="2457" h="1241">
                <a:moveTo>
                  <a:pt x="12774" y="5755"/>
                </a:moveTo>
                <a:cubicBezTo>
                  <a:pt x="12704" y="5931"/>
                  <a:pt x="12626" y="6093"/>
                  <a:pt x="12576" y="6276"/>
                </a:cubicBezTo>
              </a:path>
              <a:path w="2457" h="1241">
                <a:moveTo>
                  <a:pt x="12948" y="5804"/>
                </a:moveTo>
                <a:cubicBezTo>
                  <a:pt x="13092" y="5777"/>
                  <a:pt x="13265" y="5764"/>
                  <a:pt x="13320" y="5953"/>
                </a:cubicBezTo>
                <a:cubicBezTo>
                  <a:pt x="13392" y="6202"/>
                  <a:pt x="13232" y="6261"/>
                  <a:pt x="13047" y="6251"/>
                </a:cubicBezTo>
                <a:cubicBezTo>
                  <a:pt x="13055" y="6133"/>
                  <a:pt x="13093" y="5942"/>
                  <a:pt x="13271" y="6052"/>
                </a:cubicBezTo>
                <a:cubicBezTo>
                  <a:pt x="13318" y="6124"/>
                  <a:pt x="13333" y="6145"/>
                  <a:pt x="13345" y="6201"/>
                </a:cubicBezTo>
              </a:path>
              <a:path w="2457" h="1241">
                <a:moveTo>
                  <a:pt x="11286" y="5879"/>
                </a:moveTo>
                <a:cubicBezTo>
                  <a:pt x="11400" y="5787"/>
                  <a:pt x="11401" y="5752"/>
                  <a:pt x="11559" y="5779"/>
                </a:cubicBezTo>
                <a:cubicBezTo>
                  <a:pt x="11742" y="5811"/>
                  <a:pt x="11807" y="5766"/>
                  <a:pt x="11981" y="5730"/>
                </a:cubicBezTo>
                <a:cubicBezTo>
                  <a:pt x="12082" y="5709"/>
                  <a:pt x="12084" y="5842"/>
                  <a:pt x="12105" y="5904"/>
                </a:cubicBezTo>
              </a:path>
              <a:path w="2457" h="1241">
                <a:moveTo>
                  <a:pt x="11609" y="5507"/>
                </a:moveTo>
                <a:cubicBezTo>
                  <a:pt x="11609" y="5674"/>
                  <a:pt x="11611" y="5658"/>
                  <a:pt x="11757" y="5606"/>
                </a:cubicBezTo>
              </a:path>
              <a:path w="2457" h="1241">
                <a:moveTo>
                  <a:pt x="11733" y="5383"/>
                </a:moveTo>
                <a:cubicBezTo>
                  <a:pt x="11713" y="5533"/>
                  <a:pt x="11708" y="5676"/>
                  <a:pt x="11708" y="5829"/>
                </a:cubicBezTo>
              </a:path>
              <a:path w="2457" h="1241">
                <a:moveTo>
                  <a:pt x="12328" y="5581"/>
                </a:moveTo>
                <a:cubicBezTo>
                  <a:pt x="12215" y="5441"/>
                  <a:pt x="12348" y="5576"/>
                  <a:pt x="12402" y="5631"/>
                </a:cubicBezTo>
              </a:path>
              <a:path w="2457" h="1241">
                <a:moveTo>
                  <a:pt x="12427" y="5482"/>
                </a:moveTo>
                <a:cubicBezTo>
                  <a:pt x="12403" y="5622"/>
                  <a:pt x="12395" y="5663"/>
                  <a:pt x="12402" y="5755"/>
                </a:cubicBezTo>
              </a:path>
              <a:path w="2457" h="1241">
                <a:moveTo>
                  <a:pt x="12626" y="5507"/>
                </a:moveTo>
                <a:cubicBezTo>
                  <a:pt x="12699" y="5465"/>
                  <a:pt x="12675" y="5460"/>
                  <a:pt x="12750" y="5482"/>
                </a:cubicBezTo>
                <a:cubicBezTo>
                  <a:pt x="12729" y="5597"/>
                  <a:pt x="12696" y="5640"/>
                  <a:pt x="12626" y="5730"/>
                </a:cubicBezTo>
                <a:cubicBezTo>
                  <a:pt x="12729" y="5730"/>
                  <a:pt x="12822" y="5715"/>
                  <a:pt x="12923" y="570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ff"/>
                </a:solidFill>
                <a:uFillTx/>
                <a:latin typeface="Palatino"/>
              </a:rPr>
              <a:t>Course 2 Objective:</a:t>
            </a:r>
            <a:r>
              <a:rPr b="1" lang="en-US" sz="2400" spc="-1" strike="noStrike">
                <a:solidFill>
                  <a:srgbClr val="6600ff"/>
                </a:solidFill>
                <a:latin typeface="Palatino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Palatino"/>
              </a:rPr>
              <a:t> Students will evaluate exponents using the order of operations</a:t>
            </a:r>
            <a:endParaRPr b="1" lang="en-US" sz="2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ymbols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x       (  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Division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24" name=""/>
          <p:cNvSpPr/>
          <p:nvPr/>
        </p:nvSpPr>
        <p:spPr>
          <a:xfrm>
            <a:off x="4562640" y="2340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675" y="6499"/>
                </a:moveTo>
                <a:lnTo>
                  <a:pt x="12675" y="649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60640" y="3224160"/>
            <a:ext cx="554040" cy="258840"/>
          </a:xfrm>
          <a:custGeom>
            <a:avLst/>
            <a:gdLst/>
            <a:ahLst/>
            <a:rect l="l" t="t" r="r" b="b"/>
            <a:pathLst>
              <a:path w="1538" h="721">
                <a:moveTo>
                  <a:pt x="3324" y="9103"/>
                </a:moveTo>
                <a:cubicBezTo>
                  <a:pt x="3407" y="9062"/>
                  <a:pt x="3544" y="8961"/>
                  <a:pt x="3621" y="9079"/>
                </a:cubicBezTo>
                <a:cubicBezTo>
                  <a:pt x="3704" y="9206"/>
                  <a:pt x="3541" y="9435"/>
                  <a:pt x="3398" y="9426"/>
                </a:cubicBezTo>
                <a:cubicBezTo>
                  <a:pt x="3398" y="9409"/>
                  <a:pt x="3398" y="9393"/>
                  <a:pt x="3398" y="9376"/>
                </a:cubicBezTo>
                <a:cubicBezTo>
                  <a:pt x="3469" y="9365"/>
                  <a:pt x="3711" y="9366"/>
                  <a:pt x="3621" y="9525"/>
                </a:cubicBezTo>
                <a:cubicBezTo>
                  <a:pt x="3534" y="9679"/>
                  <a:pt x="3374" y="9674"/>
                  <a:pt x="3225" y="9674"/>
                </a:cubicBezTo>
              </a:path>
              <a:path w="1538" h="721">
                <a:moveTo>
                  <a:pt x="3969" y="9327"/>
                </a:moveTo>
                <a:cubicBezTo>
                  <a:pt x="3841" y="9435"/>
                  <a:pt x="3957" y="9467"/>
                  <a:pt x="3969" y="9351"/>
                </a:cubicBezTo>
                <a:cubicBezTo>
                  <a:pt x="3961" y="9335"/>
                  <a:pt x="3952" y="9318"/>
                  <a:pt x="3944" y="9302"/>
                </a:cubicBezTo>
              </a:path>
              <a:path w="1538" h="721">
                <a:moveTo>
                  <a:pt x="4440" y="9054"/>
                </a:moveTo>
                <a:cubicBezTo>
                  <a:pt x="4399" y="9175"/>
                  <a:pt x="4403" y="9204"/>
                  <a:pt x="4341" y="9252"/>
                </a:cubicBezTo>
                <a:cubicBezTo>
                  <a:pt x="4458" y="9299"/>
                  <a:pt x="4517" y="9283"/>
                  <a:pt x="4638" y="9277"/>
                </a:cubicBezTo>
                <a:cubicBezTo>
                  <a:pt x="4655" y="9277"/>
                  <a:pt x="4671" y="9277"/>
                  <a:pt x="4688" y="9277"/>
                </a:cubicBezTo>
              </a:path>
              <a:path w="1538" h="721">
                <a:moveTo>
                  <a:pt x="4762" y="8954"/>
                </a:moveTo>
                <a:cubicBezTo>
                  <a:pt x="4713" y="9123"/>
                  <a:pt x="4660" y="9296"/>
                  <a:pt x="4688" y="9475"/>
                </a:cubicBezTo>
                <a:cubicBezTo>
                  <a:pt x="4707" y="9533"/>
                  <a:pt x="4716" y="9540"/>
                  <a:pt x="4713" y="95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59120" y="3303720"/>
            <a:ext cx="625680" cy="322200"/>
          </a:xfrm>
          <a:custGeom>
            <a:avLst/>
            <a:gdLst/>
            <a:ahLst/>
            <a:rect l="l" t="t" r="r" b="b"/>
            <a:pathLst>
              <a:path w="1737" h="894">
                <a:moveTo>
                  <a:pt x="10592" y="9351"/>
                </a:moveTo>
                <a:cubicBezTo>
                  <a:pt x="10575" y="9351"/>
                  <a:pt x="10559" y="9351"/>
                  <a:pt x="10542" y="9351"/>
                </a:cubicBezTo>
                <a:cubicBezTo>
                  <a:pt x="10621" y="9272"/>
                  <a:pt x="10827" y="9152"/>
                  <a:pt x="10914" y="9327"/>
                </a:cubicBezTo>
                <a:cubicBezTo>
                  <a:pt x="10997" y="9494"/>
                  <a:pt x="10785" y="9598"/>
                  <a:pt x="10691" y="9674"/>
                </a:cubicBezTo>
                <a:cubicBezTo>
                  <a:pt x="10743" y="9648"/>
                  <a:pt x="11014" y="9584"/>
                  <a:pt x="10988" y="9748"/>
                </a:cubicBezTo>
                <a:cubicBezTo>
                  <a:pt x="10951" y="9976"/>
                  <a:pt x="10587" y="9935"/>
                  <a:pt x="10443" y="9922"/>
                </a:cubicBezTo>
              </a:path>
              <a:path w="1737" h="894">
                <a:moveTo>
                  <a:pt x="11286" y="9178"/>
                </a:moveTo>
                <a:cubicBezTo>
                  <a:pt x="11089" y="9227"/>
                  <a:pt x="11041" y="9419"/>
                  <a:pt x="11038" y="9624"/>
                </a:cubicBezTo>
                <a:cubicBezTo>
                  <a:pt x="11035" y="9803"/>
                  <a:pt x="11150" y="9919"/>
                  <a:pt x="11311" y="9971"/>
                </a:cubicBezTo>
                <a:cubicBezTo>
                  <a:pt x="11319" y="9971"/>
                  <a:pt x="11328" y="9971"/>
                  <a:pt x="11336" y="9971"/>
                </a:cubicBezTo>
              </a:path>
              <a:path w="1737" h="894">
                <a:moveTo>
                  <a:pt x="11509" y="9426"/>
                </a:moveTo>
                <a:cubicBezTo>
                  <a:pt x="11502" y="9522"/>
                  <a:pt x="11486" y="9606"/>
                  <a:pt x="11460" y="9699"/>
                </a:cubicBezTo>
                <a:cubicBezTo>
                  <a:pt x="11553" y="9676"/>
                  <a:pt x="11638" y="9649"/>
                  <a:pt x="11733" y="9649"/>
                </a:cubicBezTo>
              </a:path>
              <a:path w="1737" h="894">
                <a:moveTo>
                  <a:pt x="11733" y="9401"/>
                </a:moveTo>
                <a:cubicBezTo>
                  <a:pt x="11711" y="9575"/>
                  <a:pt x="11696" y="9727"/>
                  <a:pt x="11733" y="9897"/>
                </a:cubicBezTo>
              </a:path>
              <a:path w="1737" h="894">
                <a:moveTo>
                  <a:pt x="11832" y="9203"/>
                </a:moveTo>
                <a:cubicBezTo>
                  <a:pt x="12009" y="9298"/>
                  <a:pt x="12061" y="9409"/>
                  <a:pt x="12129" y="9599"/>
                </a:cubicBezTo>
                <a:cubicBezTo>
                  <a:pt x="12209" y="9823"/>
                  <a:pt x="12179" y="9851"/>
                  <a:pt x="12055" y="10021"/>
                </a:cubicBezTo>
                <a:cubicBezTo>
                  <a:pt x="12047" y="10038"/>
                  <a:pt x="12038" y="10054"/>
                  <a:pt x="12030" y="100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75160" y="3062160"/>
            <a:ext cx="903240" cy="420840"/>
          </a:xfrm>
          <a:custGeom>
            <a:avLst/>
            <a:gdLst/>
            <a:ahLst/>
            <a:rect l="l" t="t" r="r" b="b"/>
            <a:pathLst>
              <a:path w="2507" h="1167">
                <a:moveTo>
                  <a:pt x="14932" y="9103"/>
                </a:moveTo>
                <a:cubicBezTo>
                  <a:pt x="15029" y="9027"/>
                  <a:pt x="15265" y="8850"/>
                  <a:pt x="15329" y="9079"/>
                </a:cubicBezTo>
                <a:cubicBezTo>
                  <a:pt x="15358" y="9183"/>
                  <a:pt x="15215" y="9267"/>
                  <a:pt x="15156" y="9327"/>
                </a:cubicBezTo>
                <a:cubicBezTo>
                  <a:pt x="15283" y="9297"/>
                  <a:pt x="15471" y="9290"/>
                  <a:pt x="15404" y="9500"/>
                </a:cubicBezTo>
                <a:cubicBezTo>
                  <a:pt x="15349" y="9674"/>
                  <a:pt x="15149" y="9674"/>
                  <a:pt x="15007" y="9674"/>
                </a:cubicBezTo>
              </a:path>
              <a:path w="2507" h="1167">
                <a:moveTo>
                  <a:pt x="15429" y="9103"/>
                </a:moveTo>
                <a:cubicBezTo>
                  <a:pt x="15453" y="9054"/>
                  <a:pt x="15461" y="9037"/>
                  <a:pt x="15478" y="9004"/>
                </a:cubicBezTo>
                <a:cubicBezTo>
                  <a:pt x="15589" y="9159"/>
                  <a:pt x="15570" y="9162"/>
                  <a:pt x="15751" y="9153"/>
                </a:cubicBezTo>
                <a:cubicBezTo>
                  <a:pt x="15824" y="9149"/>
                  <a:pt x="15900" y="9153"/>
                  <a:pt x="15974" y="9153"/>
                </a:cubicBezTo>
              </a:path>
              <a:path w="2507" h="1167">
                <a:moveTo>
                  <a:pt x="15825" y="8806"/>
                </a:moveTo>
                <a:cubicBezTo>
                  <a:pt x="15898" y="8996"/>
                  <a:pt x="15937" y="9185"/>
                  <a:pt x="15999" y="9376"/>
                </a:cubicBezTo>
                <a:cubicBezTo>
                  <a:pt x="16007" y="9401"/>
                  <a:pt x="16016" y="9426"/>
                  <a:pt x="16024" y="9451"/>
                </a:cubicBezTo>
              </a:path>
              <a:path w="2507" h="1167">
                <a:moveTo>
                  <a:pt x="15453" y="9029"/>
                </a:moveTo>
                <a:cubicBezTo>
                  <a:pt x="15432" y="8985"/>
                  <a:pt x="15429" y="8973"/>
                  <a:pt x="15404" y="8954"/>
                </a:cubicBezTo>
                <a:cubicBezTo>
                  <a:pt x="15436" y="8939"/>
                  <a:pt x="15435" y="8985"/>
                  <a:pt x="15503" y="9079"/>
                </a:cubicBezTo>
              </a:path>
              <a:path w="2507" h="1167">
                <a:moveTo>
                  <a:pt x="16123" y="8930"/>
                </a:moveTo>
                <a:cubicBezTo>
                  <a:pt x="16139" y="8865"/>
                  <a:pt x="16224" y="8745"/>
                  <a:pt x="16321" y="8806"/>
                </a:cubicBezTo>
                <a:cubicBezTo>
                  <a:pt x="16456" y="8891"/>
                  <a:pt x="16339" y="9012"/>
                  <a:pt x="16272" y="9079"/>
                </a:cubicBezTo>
                <a:cubicBezTo>
                  <a:pt x="16391" y="9023"/>
                  <a:pt x="16582" y="9014"/>
                  <a:pt x="16520" y="9227"/>
                </a:cubicBezTo>
                <a:cubicBezTo>
                  <a:pt x="16484" y="9352"/>
                  <a:pt x="16401" y="9394"/>
                  <a:pt x="16297" y="9426"/>
                </a:cubicBezTo>
              </a:path>
              <a:path w="2507" h="1167">
                <a:moveTo>
                  <a:pt x="16570" y="8830"/>
                </a:moveTo>
                <a:cubicBezTo>
                  <a:pt x="16598" y="8956"/>
                  <a:pt x="16593" y="9105"/>
                  <a:pt x="16644" y="9227"/>
                </a:cubicBezTo>
                <a:cubicBezTo>
                  <a:pt x="16699" y="9360"/>
                  <a:pt x="16824" y="9350"/>
                  <a:pt x="16942" y="9327"/>
                </a:cubicBezTo>
                <a:cubicBezTo>
                  <a:pt x="17080" y="9300"/>
                  <a:pt x="17103" y="9254"/>
                  <a:pt x="17115" y="9128"/>
                </a:cubicBezTo>
                <a:cubicBezTo>
                  <a:pt x="17033" y="9103"/>
                  <a:pt x="16971" y="9086"/>
                  <a:pt x="16917" y="9178"/>
                </a:cubicBezTo>
                <a:cubicBezTo>
                  <a:pt x="16875" y="9249"/>
                  <a:pt x="16905" y="9281"/>
                  <a:pt x="16917" y="9351"/>
                </a:cubicBezTo>
              </a:path>
              <a:path w="2507" h="1167">
                <a:moveTo>
                  <a:pt x="16173" y="8508"/>
                </a:moveTo>
                <a:cubicBezTo>
                  <a:pt x="16118" y="8658"/>
                  <a:pt x="16129" y="8795"/>
                  <a:pt x="16148" y="8954"/>
                </a:cubicBezTo>
                <a:cubicBezTo>
                  <a:pt x="16166" y="9103"/>
                  <a:pt x="16142" y="9341"/>
                  <a:pt x="16222" y="9475"/>
                </a:cubicBezTo>
                <a:cubicBezTo>
                  <a:pt x="16275" y="9564"/>
                  <a:pt x="16393" y="9636"/>
                  <a:pt x="16495" y="9649"/>
                </a:cubicBezTo>
                <a:cubicBezTo>
                  <a:pt x="16569" y="9649"/>
                  <a:pt x="16578" y="9649"/>
                  <a:pt x="16619" y="9649"/>
                </a:cubicBezTo>
              </a:path>
              <a:path w="2507" h="1167">
                <a:moveTo>
                  <a:pt x="16991" y="8558"/>
                </a:moveTo>
                <a:cubicBezTo>
                  <a:pt x="17187" y="8711"/>
                  <a:pt x="17285" y="8863"/>
                  <a:pt x="17363" y="9103"/>
                </a:cubicBezTo>
                <a:cubicBezTo>
                  <a:pt x="17394" y="9200"/>
                  <a:pt x="17502" y="9461"/>
                  <a:pt x="17388" y="9550"/>
                </a:cubicBezTo>
                <a:cubicBezTo>
                  <a:pt x="17371" y="9558"/>
                  <a:pt x="17355" y="9567"/>
                  <a:pt x="17338" y="95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4720" y="4911840"/>
            <a:ext cx="760320" cy="276120"/>
          </a:xfrm>
          <a:custGeom>
            <a:avLst/>
            <a:gdLst/>
            <a:ahLst/>
            <a:rect l="l" t="t" r="r" b="b"/>
            <a:pathLst>
              <a:path w="2110" h="770">
                <a:moveTo>
                  <a:pt x="2902" y="13717"/>
                </a:moveTo>
                <a:cubicBezTo>
                  <a:pt x="2927" y="13955"/>
                  <a:pt x="2978" y="14184"/>
                  <a:pt x="3051" y="14412"/>
                </a:cubicBezTo>
              </a:path>
              <a:path w="2110" h="770">
                <a:moveTo>
                  <a:pt x="3299" y="13717"/>
                </a:moveTo>
                <a:cubicBezTo>
                  <a:pt x="3456" y="13577"/>
                  <a:pt x="3587" y="13677"/>
                  <a:pt x="3646" y="13891"/>
                </a:cubicBezTo>
                <a:cubicBezTo>
                  <a:pt x="3706" y="14107"/>
                  <a:pt x="3641" y="14455"/>
                  <a:pt x="3373" y="14288"/>
                </a:cubicBezTo>
                <a:cubicBezTo>
                  <a:pt x="3348" y="14263"/>
                  <a:pt x="3324" y="14238"/>
                  <a:pt x="3299" y="14213"/>
                </a:cubicBezTo>
                <a:cubicBezTo>
                  <a:pt x="3437" y="14139"/>
                  <a:pt x="3559" y="14059"/>
                  <a:pt x="3696" y="14163"/>
                </a:cubicBezTo>
                <a:cubicBezTo>
                  <a:pt x="3742" y="14209"/>
                  <a:pt x="3757" y="14221"/>
                  <a:pt x="3770" y="14263"/>
                </a:cubicBezTo>
              </a:path>
              <a:path w="2110" h="770">
                <a:moveTo>
                  <a:pt x="3994" y="14039"/>
                </a:moveTo>
                <a:cubicBezTo>
                  <a:pt x="4112" y="14005"/>
                  <a:pt x="4284" y="13929"/>
                  <a:pt x="4390" y="13965"/>
                </a:cubicBezTo>
              </a:path>
              <a:path w="2110" h="770">
                <a:moveTo>
                  <a:pt x="4142" y="13692"/>
                </a:moveTo>
                <a:cubicBezTo>
                  <a:pt x="4134" y="13709"/>
                  <a:pt x="4126" y="13725"/>
                  <a:pt x="4118" y="13742"/>
                </a:cubicBezTo>
              </a:path>
              <a:path w="2110" h="770">
                <a:moveTo>
                  <a:pt x="4167" y="14312"/>
                </a:moveTo>
                <a:lnTo>
                  <a:pt x="4167" y="14312"/>
                </a:lnTo>
              </a:path>
              <a:path w="2110" h="770">
                <a:moveTo>
                  <a:pt x="4539" y="13866"/>
                </a:moveTo>
                <a:cubicBezTo>
                  <a:pt x="4594" y="13727"/>
                  <a:pt x="4666" y="13690"/>
                  <a:pt x="4812" y="13667"/>
                </a:cubicBezTo>
                <a:cubicBezTo>
                  <a:pt x="4859" y="13886"/>
                  <a:pt x="4797" y="14017"/>
                  <a:pt x="4688" y="14213"/>
                </a:cubicBezTo>
                <a:cubicBezTo>
                  <a:pt x="4661" y="14262"/>
                  <a:pt x="4638" y="14386"/>
                  <a:pt x="4638" y="14288"/>
                </a:cubicBezTo>
                <a:cubicBezTo>
                  <a:pt x="4721" y="14155"/>
                  <a:pt x="4791" y="14169"/>
                  <a:pt x="4936" y="14238"/>
                </a:cubicBezTo>
                <a:cubicBezTo>
                  <a:pt x="4961" y="14255"/>
                  <a:pt x="4986" y="14271"/>
                  <a:pt x="5011" y="142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24080" y="4687920"/>
            <a:ext cx="793800" cy="911160"/>
          </a:xfrm>
          <a:custGeom>
            <a:avLst/>
            <a:gdLst/>
            <a:ahLst/>
            <a:rect l="l" t="t" r="r" b="b"/>
            <a:pathLst>
              <a:path w="2209" h="2532">
                <a:moveTo>
                  <a:pt x="8384" y="15528"/>
                </a:moveTo>
                <a:cubicBezTo>
                  <a:pt x="8384" y="15536"/>
                  <a:pt x="8384" y="15545"/>
                  <a:pt x="8384" y="15553"/>
                </a:cubicBezTo>
              </a:path>
              <a:path w="2209" h="2532">
                <a:moveTo>
                  <a:pt x="6201" y="13742"/>
                </a:moveTo>
                <a:cubicBezTo>
                  <a:pt x="6133" y="13605"/>
                  <a:pt x="6266" y="14093"/>
                  <a:pt x="6276" y="14139"/>
                </a:cubicBezTo>
                <a:cubicBezTo>
                  <a:pt x="6284" y="14172"/>
                  <a:pt x="6292" y="14205"/>
                  <a:pt x="6300" y="14238"/>
                </a:cubicBezTo>
              </a:path>
              <a:path w="2209" h="2532">
                <a:moveTo>
                  <a:pt x="6524" y="13791"/>
                </a:moveTo>
                <a:cubicBezTo>
                  <a:pt x="6523" y="13659"/>
                  <a:pt x="6584" y="13621"/>
                  <a:pt x="6722" y="13593"/>
                </a:cubicBezTo>
                <a:cubicBezTo>
                  <a:pt x="6808" y="13749"/>
                  <a:pt x="6745" y="13872"/>
                  <a:pt x="6672" y="14039"/>
                </a:cubicBezTo>
                <a:cubicBezTo>
                  <a:pt x="6629" y="14127"/>
                  <a:pt x="6623" y="14150"/>
                  <a:pt x="6573" y="14188"/>
                </a:cubicBezTo>
                <a:cubicBezTo>
                  <a:pt x="6706" y="14127"/>
                  <a:pt x="6803" y="14083"/>
                  <a:pt x="6945" y="14064"/>
                </a:cubicBezTo>
              </a:path>
              <a:path w="2209" h="2532">
                <a:moveTo>
                  <a:pt x="7193" y="13022"/>
                </a:moveTo>
                <a:cubicBezTo>
                  <a:pt x="7153" y="13325"/>
                  <a:pt x="7100" y="13637"/>
                  <a:pt x="7045" y="13940"/>
                </a:cubicBezTo>
                <a:cubicBezTo>
                  <a:pt x="6994" y="14221"/>
                  <a:pt x="6959" y="14537"/>
                  <a:pt x="6896" y="14808"/>
                </a:cubicBezTo>
              </a:path>
              <a:path w="2209" h="2532">
                <a:moveTo>
                  <a:pt x="7293" y="13742"/>
                </a:moveTo>
                <a:cubicBezTo>
                  <a:pt x="7293" y="13671"/>
                  <a:pt x="7297" y="13610"/>
                  <a:pt x="7367" y="13568"/>
                </a:cubicBezTo>
                <a:cubicBezTo>
                  <a:pt x="7392" y="13560"/>
                  <a:pt x="7416" y="13551"/>
                  <a:pt x="7441" y="13543"/>
                </a:cubicBezTo>
                <a:cubicBezTo>
                  <a:pt x="7486" y="13683"/>
                  <a:pt x="7521" y="13847"/>
                  <a:pt x="7441" y="13990"/>
                </a:cubicBezTo>
                <a:cubicBezTo>
                  <a:pt x="7399" y="14065"/>
                  <a:pt x="7306" y="14150"/>
                  <a:pt x="7243" y="14213"/>
                </a:cubicBezTo>
                <a:cubicBezTo>
                  <a:pt x="7255" y="14180"/>
                  <a:pt x="7349" y="14024"/>
                  <a:pt x="7417" y="14039"/>
                </a:cubicBezTo>
                <a:cubicBezTo>
                  <a:pt x="7528" y="14063"/>
                  <a:pt x="7516" y="14181"/>
                  <a:pt x="7640" y="14188"/>
                </a:cubicBezTo>
                <a:cubicBezTo>
                  <a:pt x="7656" y="14188"/>
                  <a:pt x="7673" y="14188"/>
                  <a:pt x="7689" y="141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86080" y="4813200"/>
            <a:ext cx="473040" cy="465120"/>
          </a:xfrm>
          <a:custGeom>
            <a:avLst/>
            <a:gdLst/>
            <a:ahLst/>
            <a:rect l="l" t="t" r="r" b="b"/>
            <a:pathLst>
              <a:path w="1316" h="1291">
                <a:moveTo>
                  <a:pt x="9426" y="13444"/>
                </a:moveTo>
                <a:cubicBezTo>
                  <a:pt x="9445" y="13576"/>
                  <a:pt x="9465" y="13708"/>
                  <a:pt x="9475" y="13841"/>
                </a:cubicBezTo>
              </a:path>
              <a:path w="1316" h="1291">
                <a:moveTo>
                  <a:pt x="9699" y="13395"/>
                </a:moveTo>
                <a:cubicBezTo>
                  <a:pt x="9745" y="13324"/>
                  <a:pt x="9875" y="13364"/>
                  <a:pt x="9872" y="13494"/>
                </a:cubicBezTo>
                <a:cubicBezTo>
                  <a:pt x="9870" y="13598"/>
                  <a:pt x="9787" y="13653"/>
                  <a:pt x="9723" y="13717"/>
                </a:cubicBezTo>
                <a:cubicBezTo>
                  <a:pt x="9838" y="13686"/>
                  <a:pt x="9927" y="13667"/>
                  <a:pt x="10046" y="13667"/>
                </a:cubicBezTo>
                <a:cubicBezTo>
                  <a:pt x="10063" y="13667"/>
                  <a:pt x="10079" y="13667"/>
                  <a:pt x="10096" y="13667"/>
                </a:cubicBezTo>
              </a:path>
              <a:path w="1316" h="1291">
                <a:moveTo>
                  <a:pt x="9128" y="14015"/>
                </a:moveTo>
                <a:cubicBezTo>
                  <a:pt x="9390" y="13941"/>
                  <a:pt x="9649" y="13926"/>
                  <a:pt x="9922" y="13915"/>
                </a:cubicBezTo>
                <a:cubicBezTo>
                  <a:pt x="10093" y="13908"/>
                  <a:pt x="10252" y="13919"/>
                  <a:pt x="10418" y="13891"/>
                </a:cubicBezTo>
                <a:cubicBezTo>
                  <a:pt x="10426" y="13891"/>
                  <a:pt x="10435" y="13891"/>
                  <a:pt x="10443" y="13891"/>
                </a:cubicBezTo>
              </a:path>
              <a:path w="1316" h="1291">
                <a:moveTo>
                  <a:pt x="9723" y="14188"/>
                </a:moveTo>
                <a:cubicBezTo>
                  <a:pt x="9734" y="14113"/>
                  <a:pt x="9809" y="14039"/>
                  <a:pt x="9897" y="14039"/>
                </a:cubicBezTo>
                <a:cubicBezTo>
                  <a:pt x="9949" y="14039"/>
                  <a:pt x="10034" y="14118"/>
                  <a:pt x="10046" y="14163"/>
                </a:cubicBezTo>
                <a:cubicBezTo>
                  <a:pt x="10067" y="14241"/>
                  <a:pt x="9901" y="14371"/>
                  <a:pt x="9847" y="14412"/>
                </a:cubicBezTo>
                <a:cubicBezTo>
                  <a:pt x="9764" y="14476"/>
                  <a:pt x="9710" y="14527"/>
                  <a:pt x="9674" y="14635"/>
                </a:cubicBezTo>
                <a:cubicBezTo>
                  <a:pt x="9674" y="14643"/>
                  <a:pt x="9674" y="14652"/>
                  <a:pt x="9674" y="14660"/>
                </a:cubicBezTo>
                <a:cubicBezTo>
                  <a:pt x="9752" y="14629"/>
                  <a:pt x="9820" y="14474"/>
                  <a:pt x="9897" y="14461"/>
                </a:cubicBezTo>
                <a:cubicBezTo>
                  <a:pt x="10024" y="14440"/>
                  <a:pt x="10045" y="14577"/>
                  <a:pt x="10145" y="14585"/>
                </a:cubicBezTo>
                <a:cubicBezTo>
                  <a:pt x="10220" y="14560"/>
                  <a:pt x="10244" y="14552"/>
                  <a:pt x="10294" y="145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6240" y="4786200"/>
            <a:ext cx="839880" cy="357480"/>
          </a:xfrm>
          <a:custGeom>
            <a:avLst/>
            <a:gdLst/>
            <a:ahLst/>
            <a:rect l="l" t="t" r="r" b="b"/>
            <a:pathLst>
              <a:path w="2333" h="994">
                <a:moveTo>
                  <a:pt x="12650" y="13667"/>
                </a:moveTo>
                <a:cubicBezTo>
                  <a:pt x="12756" y="13828"/>
                  <a:pt x="12715" y="13947"/>
                  <a:pt x="12725" y="14139"/>
                </a:cubicBezTo>
              </a:path>
              <a:path w="2333" h="994">
                <a:moveTo>
                  <a:pt x="12973" y="13568"/>
                </a:moveTo>
                <a:cubicBezTo>
                  <a:pt x="13094" y="13514"/>
                  <a:pt x="13231" y="13481"/>
                  <a:pt x="13271" y="13667"/>
                </a:cubicBezTo>
                <a:cubicBezTo>
                  <a:pt x="13316" y="13879"/>
                  <a:pt x="13236" y="13987"/>
                  <a:pt x="13122" y="14139"/>
                </a:cubicBezTo>
                <a:cubicBezTo>
                  <a:pt x="13073" y="14105"/>
                  <a:pt x="12921" y="13905"/>
                  <a:pt x="13097" y="13891"/>
                </a:cubicBezTo>
                <a:cubicBezTo>
                  <a:pt x="13246" y="13879"/>
                  <a:pt x="13331" y="14007"/>
                  <a:pt x="13395" y="14114"/>
                </a:cubicBezTo>
              </a:path>
              <a:path w="2333" h="994">
                <a:moveTo>
                  <a:pt x="12278" y="14188"/>
                </a:moveTo>
                <a:cubicBezTo>
                  <a:pt x="12278" y="14246"/>
                  <a:pt x="12278" y="14255"/>
                  <a:pt x="12278" y="14288"/>
                </a:cubicBezTo>
                <a:cubicBezTo>
                  <a:pt x="12269" y="14119"/>
                  <a:pt x="12240" y="13956"/>
                  <a:pt x="12204" y="13791"/>
                </a:cubicBezTo>
                <a:cubicBezTo>
                  <a:pt x="12187" y="13712"/>
                  <a:pt x="12158" y="13641"/>
                  <a:pt x="12154" y="13568"/>
                </a:cubicBezTo>
                <a:cubicBezTo>
                  <a:pt x="12149" y="13475"/>
                  <a:pt x="12221" y="13461"/>
                  <a:pt x="12303" y="13444"/>
                </a:cubicBezTo>
                <a:cubicBezTo>
                  <a:pt x="12621" y="13379"/>
                  <a:pt x="12969" y="13295"/>
                  <a:pt x="13295" y="13295"/>
                </a:cubicBezTo>
                <a:cubicBezTo>
                  <a:pt x="13451" y="13295"/>
                  <a:pt x="13609" y="13320"/>
                  <a:pt x="13767" y="13320"/>
                </a:cubicBezTo>
              </a:path>
              <a:path w="2333" h="994">
                <a:moveTo>
                  <a:pt x="11534" y="13767"/>
                </a:moveTo>
                <a:cubicBezTo>
                  <a:pt x="11509" y="13693"/>
                  <a:pt x="11557" y="13612"/>
                  <a:pt x="11658" y="13618"/>
                </a:cubicBezTo>
                <a:cubicBezTo>
                  <a:pt x="11758" y="13624"/>
                  <a:pt x="11782" y="13781"/>
                  <a:pt x="11733" y="13841"/>
                </a:cubicBezTo>
                <a:cubicBezTo>
                  <a:pt x="11677" y="13910"/>
                  <a:pt x="11604" y="13940"/>
                  <a:pt x="11534" y="13990"/>
                </a:cubicBezTo>
                <a:cubicBezTo>
                  <a:pt x="11475" y="14033"/>
                  <a:pt x="11444" y="14100"/>
                  <a:pt x="11435" y="14163"/>
                </a:cubicBezTo>
                <a:cubicBezTo>
                  <a:pt x="11495" y="14079"/>
                  <a:pt x="11537" y="13946"/>
                  <a:pt x="11633" y="14064"/>
                </a:cubicBezTo>
                <a:cubicBezTo>
                  <a:pt x="11708" y="14156"/>
                  <a:pt x="11672" y="14185"/>
                  <a:pt x="11807" y="14114"/>
                </a:cubicBezTo>
                <a:cubicBezTo>
                  <a:pt x="11824" y="14106"/>
                  <a:pt x="11840" y="14097"/>
                  <a:pt x="11857" y="140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57960" y="1616040"/>
            <a:ext cx="884160" cy="349200"/>
          </a:xfrm>
          <a:custGeom>
            <a:avLst/>
            <a:gdLst/>
            <a:ahLst/>
            <a:rect l="l" t="t" r="r" b="b"/>
            <a:pathLst>
              <a:path w="2457" h="968">
                <a:moveTo>
                  <a:pt x="17661" y="5135"/>
                </a:moveTo>
                <a:cubicBezTo>
                  <a:pt x="17750" y="5204"/>
                  <a:pt x="17955" y="5445"/>
                  <a:pt x="18058" y="5457"/>
                </a:cubicBezTo>
                <a:cubicBezTo>
                  <a:pt x="18153" y="5468"/>
                  <a:pt x="18223" y="5281"/>
                  <a:pt x="18256" y="5209"/>
                </a:cubicBezTo>
                <a:cubicBezTo>
                  <a:pt x="18310" y="5089"/>
                  <a:pt x="18354" y="4955"/>
                  <a:pt x="18405" y="4837"/>
                </a:cubicBezTo>
                <a:cubicBezTo>
                  <a:pt x="18434" y="4771"/>
                  <a:pt x="18431" y="4704"/>
                  <a:pt x="18455" y="4638"/>
                </a:cubicBezTo>
                <a:cubicBezTo>
                  <a:pt x="18489" y="4544"/>
                  <a:pt x="18446" y="4495"/>
                  <a:pt x="18579" y="4490"/>
                </a:cubicBezTo>
                <a:cubicBezTo>
                  <a:pt x="18690" y="4486"/>
                  <a:pt x="18833" y="4514"/>
                  <a:pt x="18951" y="4514"/>
                </a:cubicBezTo>
                <a:cubicBezTo>
                  <a:pt x="19089" y="4514"/>
                  <a:pt x="19219" y="4523"/>
                  <a:pt x="19348" y="4539"/>
                </a:cubicBezTo>
                <a:cubicBezTo>
                  <a:pt x="19465" y="4554"/>
                  <a:pt x="19574" y="4564"/>
                  <a:pt x="19695" y="4564"/>
                </a:cubicBezTo>
                <a:cubicBezTo>
                  <a:pt x="19836" y="4564"/>
                  <a:pt x="19976" y="4564"/>
                  <a:pt x="20117" y="45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ff"/>
                </a:solidFill>
                <a:uFillTx/>
                <a:latin typeface="Palatino"/>
              </a:rPr>
              <a:t>Course 2 Objective:</a:t>
            </a:r>
            <a:r>
              <a:rPr b="1" lang="en-US" sz="2400" spc="-1" strike="noStrike">
                <a:solidFill>
                  <a:srgbClr val="6600ff"/>
                </a:solidFill>
                <a:latin typeface="Palatino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Palatino"/>
              </a:rPr>
              <a:t> Students will evaluate exponents using the order of operations</a:t>
            </a:r>
            <a:endParaRPr b="1" lang="en-US" sz="2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t’s time for a QUIZ!!!!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cover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ff"/>
                </a:solidFill>
                <a:uFillTx/>
                <a:latin typeface="Palatino"/>
              </a:rPr>
              <a:t>Course 2 Objective:</a:t>
            </a:r>
            <a:r>
              <a:rPr b="1" lang="en-US" sz="2400" spc="-1" strike="noStrike">
                <a:solidFill>
                  <a:srgbClr val="6600ff"/>
                </a:solidFill>
                <a:latin typeface="Palatino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Palatino"/>
              </a:rPr>
              <a:t> Students will evaluate exponents using the order of operations</a:t>
            </a:r>
            <a:endParaRPr b="1" lang="en-US" sz="2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pression Match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When finished, turn in your quiz.  Take a set of Expression match cards. 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lace the cards upside down on the desk.  Select two cards and flip them over.  Evaluate the expressions to see if you have a match.  If the cards match, take them .  If they don’t match, turn them back over and try again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If your neighbor finishes early, you may play this game together taking turns.  The person with the most matches at the end of class time is the winner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No Homework!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01:28:07Z</dcterms:created>
  <dc:creator>Brian McGrath</dc:creator>
  <dc:description/>
  <dc:language>en-US</dc:language>
  <cp:lastModifiedBy>deanne elizabeth mcgrath</cp:lastModifiedBy>
  <dcterms:modified xsi:type="dcterms:W3CDTF">2010-09-10T17:40:59Z</dcterms:modified>
  <cp:revision>3</cp:revision>
  <dc:subject/>
  <dc:title>Course 2 Objective:   - Students will evaluate numeric expressions using the order of operations - Students will evaluate exponents</dc:title>
</cp:coreProperties>
</file>